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1F55-DDEC-46EE-AC6B-0FEED678FF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60DC0-91EA-4437-BDCF-9BF1C00F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EEB81-AF9B-4DB0-85FA-FDB92A04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DDE56-9316-4439-B47D-CD733B4CD0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6782-6014-4749-8418-DB11D571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5D0FE-70B2-4ABD-8633-B4A5A47D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194E6-7C9A-4FAB-A5A9-9BA00086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1642F-D816-4390-8D6C-4BAD4601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8394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5772-CA78-486F-AAC7-14716B28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2630F-C737-4FE1-BBD9-C54BE63A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91EA0-1AD4-4036-B959-935AE327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7B140-6DE4-4F2F-9652-76C1E645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A153-B34C-4452-B85A-42B29AA3DB1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809880" y="655272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D4CC-CC56-4EF9-93E4-62F18F5E3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87520" y="1378080"/>
            <a:ext cx="2184120" cy="2612880"/>
          </a:xfrm>
          <a:custGeom>
            <a:avLst/>
            <a:gdLst>
              <a:gd name="textAreaLeft" fmla="*/ 106560 w 2184120"/>
              <a:gd name="textAreaRight" fmla="*/ 2077560 w 2184120"/>
              <a:gd name="textAreaTop" fmla="*/ 106560 h 2612880"/>
              <a:gd name="textAreaBottom" fmla="*/ 2506320 h 2612880"/>
            </a:gdLst>
            <a:ahLst/>
            <a:rect l="textAreaLeft" t="textAreaTop" r="textAreaRight" b="textAreaBottom"/>
            <a:pathLst>
              <a:path w="21600" h="25840">
                <a:moveTo>
                  <a:pt x="3600" y="0"/>
                </a:moveTo>
                <a:arcTo wR="3600" hR="3600" stAng="16200000" swAng="-5400000"/>
                <a:lnTo>
                  <a:pt x="0" y="22240"/>
                </a:lnTo>
                <a:arcTo wR="3600" hR="3600" stAng="10800000" swAng="-5400000"/>
                <a:lnTo>
                  <a:pt x="18000" y="258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09520" y="3195720"/>
            <a:ext cx="1143000" cy="566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今回対象外範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09520" y="2273400"/>
            <a:ext cx="1143000" cy="41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ビジネスプロ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68400" y="1622520"/>
            <a:ext cx="1379520" cy="43632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外部組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58840" y="3049560"/>
            <a:ext cx="1093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68400" y="276552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情報の関連（概略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380880"/>
          <a:ext cx="8458200" cy="698760"/>
        </p:xfrm>
        <a:graphic>
          <a:graphicData uri="http://schemas.openxmlformats.org/drawingml/2006/table">
            <a:tbl>
              <a:tblPr/>
              <a:tblGrid>
                <a:gridCol w="2011320"/>
                <a:gridCol w="1112760"/>
                <a:gridCol w="2597040"/>
                <a:gridCol w="995400"/>
                <a:gridCol w="828720"/>
                <a:gridCol w="912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ビジネスプロセス関連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システム名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成者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成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改廃月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サブ）システム名称</a:t>
                      </a: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ビジネスプロセス名称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04920" y="1079640"/>
            <a:ext cx="8458200" cy="55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85520" y="6567480"/>
            <a:ext cx="217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出典：『エンドユーザによるビジネスシステム定義の進め方』　平成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月　社団法人日本情報システム・ユーザー協会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05:53:00Z</dcterms:created>
  <dc:creator/>
  <dc:description/>
  <dc:language>en-US</dc:language>
  <cp:lastModifiedBy>yo-koba</cp:lastModifiedBy>
  <dcterms:modified xsi:type="dcterms:W3CDTF">2006-09-27T11:00:35Z</dcterms:modified>
  <cp:revision>1</cp:revision>
  <dc:subject/>
  <dc:title>スライド 1</dc:title>
</cp:coreProperties>
</file>